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F21CC-9FAB-4D7B-8065-1ED83D572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61C39-CB43-4F90-862A-0EE83BD4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D0BC5-E17A-415C-84EF-247C41481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2B9C5-23C4-46A0-AA9C-440410514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A99E-7EEB-4F67-80D2-37C12903F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831D-179C-41C3-9E36-5B268BEE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09EE-6200-412F-814D-5998530D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A78D-7616-4FE7-97B0-BB9E6C94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BAE3-9733-456E-8B3F-E2A2794A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C14B-4072-401A-BBB3-0B2BC782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DFF6-C371-463A-BA3B-834048C0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397FC-425D-4D14-A287-1AD0492C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65E2-4427-481E-898B-1A37EF08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8F6C-46BD-4F2D-AA27-E75621E9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0223-B5C7-4986-91A1-F4B50BF6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CE96-A84A-48CE-A8F8-2A00AFAC0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51EC-929B-45ED-BAD5-FCBA3B0E8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76DD3-7E41-472E-8BEE-468C2891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6087D-B2DB-4A26-A033-10984D54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09CED-474C-4C79-BA69-84005496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2BFED-37D1-4C85-8B3B-F35A6197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214D9-9590-404E-B9BF-4AB9423E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3FE7F-ECFB-4440-9573-765047C3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40AA3-073A-41A6-995A-352DA472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8C9C-E97B-4F07-81F3-D9475F7C8235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A79D-5636-47CD-9EF3-D4EE58768A63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324000" y="144720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14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897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Аз съм намерил бисер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расив и съвършен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мерил съм Спасителя –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ат съм и блаж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2113920"/>
            <a:ext cx="96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е мое съкровищ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ир имам и покой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пея с радостно сърце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век Христос е мой!"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252360" y="2418480"/>
            <a:ext cx="96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Учител и Пророк е Той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ожд мой и Господар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вещеник и Ходатай мой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Победител, Цар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252360" y="2113920"/>
            <a:ext cx="96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е мое съкровищ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ир имам и покой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пея с радостно сърце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век Христос е мой!"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36360" y="2436120"/>
            <a:ext cx="921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И Слънце е на правдат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ияе в пътя ми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целение носи под крил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всичките земи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252360" y="2113920"/>
            <a:ext cx="96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е мое съкровищ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ир имам и покой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пея с радостно сърце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век Христос е мой!"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-36360" y="2436120"/>
            <a:ext cx="921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4. Христос за мен е все во вс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 тоз свят живот е мой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енецът мой ще е в неб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ъв вечния покой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-252360" y="2113920"/>
            <a:ext cx="96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ой е мое съкровищ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мир имам и покой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Ще пея с радостно сърце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век Христос е мой!"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9-11T09:03:42Z</dcterms:modified>
  <cp:revision>78</cp:revision>
  <dc:subject/>
  <dc:title>Slide 1</dc:title>
</cp:coreProperties>
</file>